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E8BD-3836-42F1-B655-B0B1F77E11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0A4-23E9-4159-909F-BCEBB91AA7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EB32-6797-4275-9901-8C2E4636C5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88E4-3626-4056-9CBF-8AD1FED32A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A33-756E-4104-927B-D27AB8D70F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7299-06EB-4F6D-9E09-3B57696B3D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6A8E-917F-4C72-8017-E40B0A9D7F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87F-1850-4226-B607-3D75BA2939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3FE-BC55-471B-8134-7778092F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9DB-11CD-403A-BB0D-2C0EBE41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F9B-D234-4E73-889A-EE239B30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8B8-0E80-4D92-8377-9C5781B3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FF6E-2EBB-45C7-92A1-AC5E7FD1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D1D5-6438-4B84-9E9A-9C831A16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BD34-C1F2-4F10-8E6B-BD6C08E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F1D5-5CFF-42D5-84B8-EE885D05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9358-6A10-4F64-AC24-8835A834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095-409E-44FA-BFBE-B56606E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2B8-6B6E-49C7-864A-F9C8995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E1B-8023-4A98-8432-4CBAA2E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7361-6F77-4D6D-BC04-5E8F302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5424-A94D-4562-A0A7-5EF53E2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D773-134B-4ED5-BD86-0164D91A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4D35-3C44-4115-B540-121D97DE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9EB-2000-4C7D-B34A-C8B37DC5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90CD-CAE6-4E4A-A3BA-511376CF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34DF-7B3E-41D7-B2ED-6C84631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528B-E1FB-4699-8740-55C602FE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D3AA-D436-494C-B065-212B5D8F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568E-8CA0-47A7-B1F5-75095E21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F91-EDB7-45D1-90EB-810D6193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3048-B333-4F2C-9E4A-7DA825B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2B7F-9F69-4A38-BACE-96CB2B0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B9BC-D599-4BA2-AAD8-AA1974E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D0E7-F65F-4E05-84B7-A1015C8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99A5-CFC9-4D25-A6D3-B2C7599C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C947-501D-4FDF-BBE3-CAE27DAE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D28D-3177-46EE-965A-B1F788D5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D181-B50E-4FE4-BB3B-4C985373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3CCD-0798-4AB6-B2F1-9959768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9B6F-7DF0-440A-9997-36E58F74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1D0-216D-4F6A-95CF-48A2962D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4BA7-AA9D-4864-862B-738571B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9163-BE70-444D-83DC-1483B097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F855-BFFA-4257-8C30-FEF9D1A2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62BD-06D5-4D01-B379-4392E9B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F9A3-B35D-4EA3-8A20-58EC8E20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387D-901E-4FA9-BD4D-9E5ABCC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7390-3655-4F43-99FE-28F7D9C0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414E-F586-42F1-AAC8-7E22817C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E9B8-D04F-4C12-A5C8-3A4A63E0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A1A27-7051-45C5-9D61-04950BDA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A0C-65ED-4553-85CF-4199985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BA6E-7E99-4ABE-9F30-21442131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2619-EB7F-40CE-8122-2C5501F5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AC422-7AA2-4712-AA0A-2647AD8E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1B69-CED6-4924-BA10-A08E6A0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F212-E85E-4FC1-9A7C-E40E920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8816-CDCE-4719-B43C-B560509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A1DC-1709-4EC7-975C-2B96EC6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F06E-92C9-4BCC-A183-626A2C9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8302-BB82-421C-9BA3-4E6EE44C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61F1-06A8-4CA2-ACA5-3805FFBC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E7B-DE62-4514-8C74-C0B3E28B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3F5C-B8C5-473F-A41E-D5A0886D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51A6D-0CEA-440C-AC4D-931DCC98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9A212-9FD7-47A6-A170-D4A690D5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2A6E3-C2B2-4704-8927-8CA5BDD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1D4F-58C1-4DF0-9880-A41E0D5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D69B2-176D-4F01-AD2B-3D7FF345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0396-FDE7-4B01-8291-4F0D095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7DB7-7DFA-4271-8F80-76EB6D3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987E-BCA5-4168-9AAE-2CB1034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C820-E017-4497-A0CD-CE3149F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183-1361-4CD7-B062-DAAD2A2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E460-0B47-4B62-99BB-3B7B3E9A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818CD-A357-4D7D-8A8E-E6BCAFA6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E818-D057-4611-9384-7F234D5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720-CB4A-44E5-9022-E8554B7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E89-0AD2-4B90-A287-7B4A253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0B0D-F2D6-4672-B068-235D7E860C5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DA76-A7F8-43AB-8604-F5C65107540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B62-B874-48A3-B584-9FA3549E93D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42D-7CBA-40DE-BB98-9DFAD73D1FF6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8EE-BFF5-471F-9960-09F30BE2BCB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D8A-24AD-43AD-B334-1EA7BA09B6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C94D-B780-4C38-B24B-759D26006DD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B25-4550-45D4-9222-157C8FD578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FA1-68D5-42D1-950D-096F553A4B8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7970-F9F2-4BCE-A62F-A45AE87D4E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B0C-8914-4368-A67F-57BB0A4A14D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C9E-575C-420E-B368-A527E114EC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n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l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1080144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0174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3480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334800" y="1346040"/>
            <a:ext cx="1080144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07880" y="646416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07880" y="1557360"/>
            <a:ext cx="109443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17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334800" y="1628640"/>
            <a:ext cx="1080144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4800" y="6465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1086948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334800" y="1413000"/>
            <a:ext cx="1080144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334800" y="1343160"/>
            <a:ext cx="1079352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6, Maio/2017 e Junho/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9520" y="1052640"/>
            <a:ext cx="1065672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" y="1125360"/>
            <a:ext cx="108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e dezembro de 2007 e junho de 2017, a quantidade de benefícios previdenciários e acidentários emitidos pela Previdência aumentou 33,3%, passando de 22,1 milhões para 29,4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7 a 2016 (dezembro), 2017 (Jun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3480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07880" y="1582560"/>
            <a:ext cx="1072836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0 a 2017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2682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43,81, na média de janeiro a junho de 2017, o que representou um crescimento de 11,2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+11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2567160" y="5229000"/>
            <a:ext cx="399564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600" y="2997360"/>
            <a:ext cx="2879640" cy="20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62040" y="6343560"/>
            <a:ext cx="861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192240" y="1728720"/>
            <a:ext cx="1080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34800" y="6334200"/>
            <a:ext cx="1080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s: DATAPREV, SUB, SINTESE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8,0% dos benefícios pagos pelo INSS em Junho/2017 possuíam o valor de até um salário mínimo, o que representa um contingente de 23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10801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Junho/2016, Maio/2017 e Junho/2017, Acumulado Janeiro a Junh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5640" y="648972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365040" y="1176480"/>
            <a:ext cx="107712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09 a 2017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Junho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34800" y="6308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334800" y="1125360"/>
            <a:ext cx="1080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08504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52440" y="1413000"/>
            <a:ext cx="107838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1080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0801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8-04T21:08:50Z</cp:lastPrinted>
  <dcterms:modified xsi:type="dcterms:W3CDTF">2017-08-04T21:15:10Z</dcterms:modified>
  <cp:revision>426</cp:revision>
  <dc:subject/>
  <dc:title>Demografia</dc:title>
</cp:coreProperties>
</file>